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44D-59E9-4EB0-A2B6-82985BFA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36C-D882-4FD7-BCCA-7003643C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F28-61C0-449D-BD12-A1EDC9E8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EEB-C5AB-4D2A-A1F0-8583A187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C0C-4DD2-4195-A8DD-ABCF4D7E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D33-39CF-4D47-9F4B-B0B072ED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593-1E3A-40D6-9CEE-214DFA20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694-46C8-4D3A-B0FC-35F83DAA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9DF-98B2-4082-A8E1-64AE483E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3A0-C514-4275-BC31-C513274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22C-AEBC-409C-8914-B1E468F4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8AC-8F74-4710-8955-8E3C1E06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30D8-6FCA-4B58-904E-9B28B5119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electroniclearner.wikispaces.com/home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mrsanderson10.pbworks.com/w/page/33263525/FrontPage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278mathwiki.wikispaces.com/home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educationalwikis.wikispaces.com/Examples+of+educational+wikis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02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oper Black"/>
              </a:rPr>
              <a:t>A website that can be collaboratively ed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1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f35d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# of Wikis: Raising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80880" y="6324480"/>
            <a:ext cx="8458200" cy="381240"/>
            <a:chOff x="380880" y="6324480"/>
            <a:chExt cx="8458200" cy="381240"/>
          </a:xfrm>
        </p:grpSpPr>
        <p:sp>
          <p:nvSpPr>
            <p:cNvPr id="71" name=""/>
            <p:cNvSpPr/>
            <p:nvPr/>
          </p:nvSpPr>
          <p:spPr>
            <a:xfrm>
              <a:off x="3808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5780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712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960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4038480"/>
            <a:ext cx="685800" cy="2210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5760" y="367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39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1447920"/>
            <a:ext cx="685800" cy="4800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840" y="11174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35d3"/>
                </a:solidFill>
                <a:latin typeface="Arial"/>
              </a:rPr>
              <a:t>9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533520" y="1600200"/>
            <a:ext cx="3962160" cy="2295360"/>
          </a:xfrm>
          <a:prstGeom prst="pie">
            <a:avLst/>
          </a:prstGeom>
          <a:solidFill>
            <a:srgbClr val="a5d2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oper Black"/>
              </a:rPr>
              <a:t>wikispaces.com statistic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# of Users: Raising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6324480"/>
            <a:ext cx="8458200" cy="381240"/>
            <a:chOff x="380880" y="6324480"/>
            <a:chExt cx="8458200" cy="381240"/>
          </a:xfrm>
        </p:grpSpPr>
        <p:sp>
          <p:nvSpPr>
            <p:cNvPr id="85" name=""/>
            <p:cNvSpPr/>
            <p:nvPr/>
          </p:nvSpPr>
          <p:spPr>
            <a:xfrm>
              <a:off x="3808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0020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780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60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267080" y="4038480"/>
            <a:ext cx="685800" cy="2210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5760" y="367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9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1447920"/>
            <a:ext cx="685800" cy="4800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35d3"/>
                </a:solidFill>
                <a:latin typeface="Arial"/>
              </a:rPr>
              <a:t>2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228600" y="1447920"/>
            <a:ext cx="419112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Statistic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362320" y="2286000"/>
            <a:ext cx="46958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New Zea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048120"/>
            <a:ext cx="5639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To explore, Click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1540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019920"/>
            <a:ext cx="4800600" cy="5770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To explore, Clic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886200" y="1752480"/>
            <a:ext cx="2457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th Wik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429000"/>
            <a:ext cx="28195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Click here to Expl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648320" cy="348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0" y="228600"/>
            <a:ext cx="3962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oper Black"/>
              </a:rPr>
              <a:t>Wiki in K1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76720" y="228240"/>
            <a:ext cx="5486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, Middle and High Schools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, Middle and High Schools, Wiki can be used in any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ki's are protected and safe for k12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can handle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at the sampl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ck the s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t a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1066680"/>
            <a:ext cx="8096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erns about how to create?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120" y="2933640"/>
            <a:ext cx="809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ont worry ; Let's 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4343400"/>
            <a:ext cx="809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 can help 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Cooper Black"/>
              </a:rPr>
              <a:t>Collaborate? Wh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12416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apple-ipad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4824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6172200"/>
            <a:ext cx="8991360" cy="609480"/>
          </a:xfrm>
          <a:prstGeom prst="rect">
            <a:avLst/>
          </a:prstGeom>
          <a:solidFill>
            <a:srgbClr val="ffd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4b25"/>
                </a:solidFill>
                <a:latin typeface="Arial Narrow"/>
              </a:rPr>
              <a:t>Lets look at 2 great examples of collaborative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 the communication age Collaboration is the key to suc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00"/>
            </a:gs>
            <a:gs pos="5000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Cooper Black"/>
              </a:rPr>
              <a:t>Collaboration in K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ab_01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096240" cy="408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Comic Sans MS"/>
              </a:rPr>
              <a:t>Team work, makes the dream 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b0a"/>
            </a:gs>
            <a:gs pos="50000">
              <a:srgbClr val="ffb343"/>
            </a:gs>
            <a:gs pos="100000">
              <a:srgbClr val="271b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d Free t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5280" y="533520"/>
            <a:ext cx="64771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y Wiki??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228600"/>
            <a:ext cx="7162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at does it need?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320px-Computer-aj_aj_ashton_0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Network-Internet-Connection-icon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353040" cy="335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5514840"/>
            <a:ext cx="8001000" cy="1343160"/>
          </a:xfrm>
          <a:prstGeom prst="rect">
            <a:avLst/>
          </a:prstGeom>
          <a:ln w="0">
            <a:noFill/>
          </a:ln>
        </p:spPr>
      </p:pic>
      <p:pic>
        <p:nvPicPr>
          <p:cNvPr id="58" name="Web-Browsers" descr=""/>
          <p:cNvPicPr/>
          <p:nvPr/>
        </p:nvPicPr>
        <p:blipFill>
          <a:blip r:embed="rId4"/>
          <a:stretch/>
        </p:blipFill>
        <p:spPr>
          <a:xfrm>
            <a:off x="6095880" y="1981080"/>
            <a:ext cx="3048120" cy="28735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oper Black"/>
              </a:rPr>
              <a:t>A brief history of wi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9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d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arch 25, 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(Hawaiian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Q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To collaborate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91px-%22Brion%22_and_Ward-edited" descr="File:&quot;Brion&quot; and Ward-edited.jpg"/>
          <p:cNvPicPr/>
          <p:nvPr/>
        </p:nvPicPr>
        <p:blipFill>
          <a:blip r:embed="rId5"/>
          <a:stretch/>
        </p:blipFill>
        <p:spPr>
          <a:xfrm>
            <a:off x="5181480" y="914400"/>
            <a:ext cx="3724560" cy="5705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in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96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4911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8534520" cy="403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610480" cy="5061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124000" y="2057400"/>
            <a:ext cx="7020000" cy="449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0" y="2362320"/>
            <a:ext cx="899172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newsflash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2:46:16Z</dcterms:created>
  <dc:creator>ABC</dc:creator>
  <dc:description/>
  <dc:language>en-US</dc:language>
  <cp:lastModifiedBy>ABC</cp:lastModifiedBy>
  <dcterms:modified xsi:type="dcterms:W3CDTF">2011-10-21T03:45:21Z</dcterms:modified>
  <cp:revision>22</cp:revision>
  <dc:subject/>
  <dc:title>Wiki By Anwar</dc:title>
</cp:coreProperties>
</file>